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B5C-D226-4E68-A3E9-F8334250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779-E697-4678-BF66-35205EE8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510-AEBA-436C-9216-65A3DA64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F49-7751-4A2D-976A-941C14DD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709-6617-4A5B-9A5F-ED7618D5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E88-87F5-4474-847A-07B0A0F8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218-F5DE-428E-8DDB-966CA608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A2C-ADCB-43AD-B6EA-B8EEC255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458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E6E-059C-4F86-BD91-93F15B49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7D5-9769-4727-A57B-E2F265C0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BA8-CF46-4804-9B88-AD36D483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964-2511-4F13-B342-7C96DC63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F294-9633-407D-9CF2-CB9029652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14600" y="1066680"/>
            <a:ext cx="624852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7ebf"/>
                </a:solidFill>
                <a:latin typeface="Arial"/>
              </a:rPr>
              <a:t>Review of structural funds in Poland, Slovakia, Lithuania, Czech Re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7ebf"/>
                </a:solidFill>
                <a:latin typeface="Arial"/>
              </a:rPr>
              <a:t>Joint Seminar “Helping municipalities to use Structural Funds for energy projects</a:t>
            </a:r>
            <a:r>
              <a:rPr b="1" i="1" lang="en-US" sz="2400" spc="-1" strike="noStrike">
                <a:solidFill>
                  <a:srgbClr val="007eb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7-8, 2004, České Budej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7ebf"/>
                </a:solidFill>
                <a:latin typeface="Arial"/>
              </a:rPr>
              <a:t>Dalia Streimik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7ebf"/>
                </a:solidFill>
                <a:latin typeface="Arial"/>
              </a:rPr>
              <a:t>L</a:t>
            </a:r>
            <a:r>
              <a:rPr b="1" i="1" lang="lt-LT" sz="2000" spc="-1" strike="noStrike">
                <a:solidFill>
                  <a:srgbClr val="007ebf"/>
                </a:solidFill>
                <a:latin typeface="Arial"/>
              </a:rPr>
              <a:t>ithuanian energy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429000"/>
            <a:ext cx="5638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69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810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ebf"/>
                </a:solidFill>
                <a:latin typeface="Arial"/>
              </a:rPr>
              <a:t>SF and Sustainable Energy in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143000"/>
            <a:ext cx="807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ID 1: Industry &amp;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1-1.3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pport of business, innovation and applied research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1-1.4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for energy saving and use of 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ID 3: Rural &amp; agricultu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3-1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vestment in agricultural hold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3-2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roving the processing and marketing of agricultural pro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D 4: Basic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4-2.2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rovement and development of the infrastructure for the a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t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4-3.1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uilding and development of civil infrastructure in the reg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69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19320" y="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ebf"/>
                </a:solidFill>
                <a:latin typeface="Arial"/>
              </a:rPr>
              <a:t>Areas of sustainable energy support in OP and responsible institutions in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90720" y="2666880"/>
          <a:ext cx="8153280" cy="1828800"/>
        </p:xfrm>
        <a:graphic>
          <a:graphicData uri="http://schemas.openxmlformats.org/drawingml/2006/table">
            <a:tbl>
              <a:tblPr/>
              <a:tblGrid>
                <a:gridCol w="2209680"/>
                <a:gridCol w="59436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3 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iculture and Rural Developm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nistry of Agri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ority ID 3-1 </a:t>
                      </a:r>
                      <a:r>
                        <a:rPr b="1" i="1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stment in agricultural holdings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ority ID 3-2 </a:t>
                      </a:r>
                      <a:r>
                        <a:rPr b="1" i="1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roving the processing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1" i="1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ing of agricultural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griculture Paying Agency Sapard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cation screening, preparation of calls, implementation of project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990720" y="4495680"/>
          <a:ext cx="8229600" cy="2179800"/>
        </p:xfrm>
        <a:graphic>
          <a:graphicData uri="http://schemas.openxmlformats.org/drawingml/2006/table">
            <a:tbl>
              <a:tblPr/>
              <a:tblGrid>
                <a:gridCol w="2209680"/>
                <a:gridCol w="601992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4 Basic 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inistry of Construction &amp; Regional Development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ority ID 4-2.2 D</a:t>
                      </a:r>
                      <a:r>
                        <a:rPr b="1" i="1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lopment of the infrastructure for the air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o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inistry of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ority ID 4-3.1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1" i="1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lopment of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r>
                        <a:rPr b="1" i="1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the reg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inistry of Construction &amp; Regional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cation screening, preparation of calls, implementation of project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028880" y="1219320"/>
          <a:ext cx="8115120" cy="1463400"/>
        </p:xfrm>
        <a:graphic>
          <a:graphicData uri="http://schemas.openxmlformats.org/drawingml/2006/table">
            <a:tbl>
              <a:tblPr/>
              <a:tblGrid>
                <a:gridCol w="2171520"/>
                <a:gridCol w="59436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1 Industry &amp; Services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nistry of Economy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1-1.3  Support to business, innovation &amp;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1-1.4  Support of energy saving &amp;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lovak Energy Agency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cation screening, preparation of calls, implementation of project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581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8800" y="304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ebf"/>
                </a:solidFill>
                <a:latin typeface="Arial"/>
              </a:rPr>
              <a:t>SF and Sustainable Energy in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219320"/>
            <a:ext cx="807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ID 1: Industry &amp; 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1-7.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ducing energy consum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1-7.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er use of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ID 2: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2-7.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for the Introduction of Alternative Fuels in transpo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2-10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Management Infrastructure Improv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2-1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Protection Infrastructure Improv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ID 4: Rural &amp; agricultur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4-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vestments in agricultural holding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4-4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moting the adaptation and development of rural area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69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71600" y="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ebf"/>
                </a:solidFill>
                <a:latin typeface="Arial"/>
              </a:rPr>
              <a:t>Areas of sustainable energy support in OP and responsible institutions in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1219320"/>
          <a:ext cx="8534520" cy="1519200"/>
        </p:xfrm>
        <a:graphic>
          <a:graphicData uri="http://schemas.openxmlformats.org/drawingml/2006/table">
            <a:tbl>
              <a:tblPr/>
              <a:tblGrid>
                <a:gridCol w="2171880"/>
                <a:gridCol w="6362640"/>
              </a:tblGrid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1 Industry &amp; Enterpri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nistry of Industry &amp; 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1-7.1 Reducing energy consump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1-7.2 Higher use of RES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zechlnvest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cation screening, preparation of calls, implementation of project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09480" y="2743200"/>
          <a:ext cx="8534520" cy="2179800"/>
        </p:xfrm>
        <a:graphic>
          <a:graphicData uri="http://schemas.openxmlformats.org/drawingml/2006/table">
            <a:tbl>
              <a:tblPr/>
              <a:tblGrid>
                <a:gridCol w="2133720"/>
                <a:gridCol w="640080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2</a:t>
                      </a:r>
                      <a:r>
                        <a:rPr b="1" lang="en-GB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nistry of Environment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2-7.1 Support for the Introduction of Alternative Fuel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inistry of 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2-10 Water Management Infrastructure Improvemen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2-11 Air Protection Infrastructure Improvemen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ate Environment F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cation screening, preparation of calls, implementation of project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09480" y="4952880"/>
          <a:ext cx="8534520" cy="1600200"/>
        </p:xfrm>
        <a:graphic>
          <a:graphicData uri="http://schemas.openxmlformats.org/drawingml/2006/table">
            <a:tbl>
              <a:tblPr/>
              <a:tblGrid>
                <a:gridCol w="2171880"/>
                <a:gridCol w="636264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4 Rural &amp; Agricultural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nistry of     Agri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4-1 Investments in agricultural holdings 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4-4 Promoting the adaptation and development of rural are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cation screening, preparation of calls, implementation of project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52480" y="380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ebf"/>
                </a:solidFill>
                <a:latin typeface="Arial"/>
              </a:rPr>
              <a:t>SF and Sustainable Energy in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7652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ID 1: Competitiveness of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1-2.4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roving of competitive position of the enterprises operating on the  European Single Mark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D 6: I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6-1.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Upgrade and modernisation of infrastructure aiming at regions’ competitiveness strengthen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6-3.1: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l development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696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ebf"/>
                </a:solidFill>
                <a:latin typeface="Arial"/>
              </a:rPr>
              <a:t>Areas of sustainable energy support in OP and responsible institutions in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371600"/>
          <a:ext cx="8534520" cy="1463760"/>
        </p:xfrm>
        <a:graphic>
          <a:graphicData uri="http://schemas.openxmlformats.org/drawingml/2006/table">
            <a:tbl>
              <a:tblPr/>
              <a:tblGrid>
                <a:gridCol w="2286000"/>
                <a:gridCol w="62485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1 Improvement of competitiveness of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nistry of Economy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1-2.4: 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Improving of competitive position of the enterprises operating on the  European Single Market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cation screening, preparation of calls, implementation of project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09480" y="2895480"/>
          <a:ext cx="8534520" cy="2133720"/>
        </p:xfrm>
        <a:graphic>
          <a:graphicData uri="http://schemas.openxmlformats.org/drawingml/2006/table">
            <a:tbl>
              <a:tblPr/>
              <a:tblGrid>
                <a:gridCol w="2286000"/>
                <a:gridCol w="624852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2</a:t>
                      </a:r>
                      <a:r>
                        <a:rPr b="1" lang="en-GB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rated regional operation program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nistry of Economy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6-1.2 Upgrade and modernisation of infrastructure aiming at regions’ competitiveness strengthening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6-3.1 Local development</a:t>
                      </a:r>
                      <a:br>
                        <a:rPr sz="2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cation screening, preparation of calls, implementation of project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0200" y="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ebf"/>
                </a:solidFill>
                <a:latin typeface="Arial"/>
              </a:rPr>
              <a:t>Areas of sustainable energy support in OP &amp; responsible institutions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4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923760"/>
            <a:ext cx="8153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reas of support in 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ductive Sector, competitiveness of econom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&amp;  agricultural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Responsible Instit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inistry of Economy (LT, PL, S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inistry of Construction &amp; Regional Development (SK);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inistry of Trad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&amp; Industry (C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inistry of Agriculture (LT, SK, C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inistry of Environment (C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Implementing Instit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usiness Support Agency (LT); </a:t>
            </a:r>
            <a:r>
              <a:rPr b="1" lang="en-GB" sz="2400" spc="-1" strike="noStrike">
                <a:solidFill>
                  <a:srgbClr val="292929"/>
                </a:solidFill>
                <a:latin typeface="Times New Roman"/>
              </a:rPr>
              <a:t>CzechInve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ergy Agency (S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Times New Roman"/>
              </a:rPr>
              <a:t>National or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griculture Paying Authorities (LT, S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State Environment Fund (C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Ministry of Transport (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71600" y="3049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1: INFRASTRUCTURE: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1-2: Renovation of boilers and conversion to biomass, natural g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o ensure stability, reliability, flexibility and accessibility of energy supply, increase of EE and to form a basis for the stable growth of national econom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ovation of boilers and switching to other fuels in the combustion plants currently burning less environmentally friendly fuels (especially burning high sulphur content petroleum produc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use of 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EE in public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3049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Particular schemes for project submis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447920"/>
            <a:ext cx="86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combustion installations to biomass, natural g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ment of renovated boilers for C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ation of new or adjustment of existing energy generation sources to use RES and municipal was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new technologies including CC, use of RES, municipal was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ovation of buildings and heating installa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&amp; control of energy use in  renovated building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audits of buildings &amp; infrastruc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 cooperation, R&amp;D related to EE improvements &amp; energy market development in national &amp; region al level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studies, information dissemination, education, consultancy and scientific research in this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04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Eligible projects &amp; eligible applica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923760"/>
            <a:ext cx="7238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ligible applic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 institu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icipalities &amp; their institu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bod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jects eligible under the condition of State aid  provision: ”Promotion  of  entrepreneurship, business &amp; investments development”: 1. de minimis support, 2. support to SME, 3. regional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ed eligibility requirement are defined during the call of propos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ligible pro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tion of negative impact on environ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of reliability of energy supp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r promotion to use 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of energy use effici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ation of advanced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0200" y="838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7ebf"/>
                </a:solidFill>
                <a:latin typeface="Arial"/>
              </a:rPr>
              <a:t>Priorities of Structural Funds in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828800"/>
            <a:ext cx="77724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Times New Roman"/>
              </a:rPr>
              <a:t>ID 1:</a:t>
            </a:r>
            <a:r>
              <a:rPr b="0" lang="en-GB" sz="2800" spc="-1" strike="noStrike">
                <a:solidFill>
                  <a:srgbClr val="292929"/>
                </a:solidFill>
                <a:latin typeface="Times New Roman"/>
              </a:rPr>
              <a:t> Development of social and economic infrastructur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Times New Roman"/>
              </a:rPr>
              <a:t>ID 2</a:t>
            </a:r>
            <a:r>
              <a:rPr b="0" lang="en-GB" sz="2800" spc="-1" strike="noStrike">
                <a:solidFill>
                  <a:srgbClr val="292929"/>
                </a:solidFill>
                <a:latin typeface="Times New Roman"/>
              </a:rPr>
              <a:t>: Development</a:t>
            </a:r>
            <a:r>
              <a:rPr b="0" lang="lt-LT" sz="28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292929"/>
                </a:solidFill>
                <a:latin typeface="Times New Roman"/>
              </a:rPr>
              <a:t>t of human resour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Times New Roman"/>
              </a:rPr>
              <a:t>ID 3</a:t>
            </a:r>
            <a:r>
              <a:rPr b="0" lang="en-GB" sz="2800" spc="-1" strike="noStrike">
                <a:solidFill>
                  <a:srgbClr val="292929"/>
                </a:solidFill>
                <a:latin typeface="Times New Roman"/>
              </a:rPr>
              <a:t>: Development</a:t>
            </a:r>
            <a:r>
              <a:rPr b="0" lang="lt-LT" sz="28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292929"/>
                </a:solidFill>
                <a:latin typeface="Times New Roman"/>
              </a:rPr>
              <a:t>t of productive sector and serv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Times New Roman"/>
              </a:rPr>
              <a:t>ID 4</a:t>
            </a:r>
            <a:r>
              <a:rPr b="0" lang="en-GB" sz="2800" spc="-1" strike="noStrike">
                <a:solidFill>
                  <a:srgbClr val="292929"/>
                </a:solidFill>
                <a:latin typeface="Times New Roman"/>
              </a:rPr>
              <a:t>: Rural development and fisheri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Times New Roman"/>
              </a:rPr>
              <a:t>ID 5</a:t>
            </a:r>
            <a:r>
              <a:rPr b="0" lang="en-GB" sz="2800" spc="-1" strike="noStrike">
                <a:solidFill>
                  <a:srgbClr val="292929"/>
                </a:solidFill>
                <a:latin typeface="Times New Roman"/>
              </a:rPr>
              <a:t>: Technical as</a:t>
            </a:r>
            <a:r>
              <a:rPr b="0" lang="lt-LT" sz="2800" spc="-1" strike="noStrike">
                <a:solidFill>
                  <a:srgbClr val="292929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292929"/>
                </a:solidFill>
                <a:latin typeface="Times New Roman"/>
              </a:rPr>
              <a:t>istan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47920" y="0"/>
            <a:ext cx="7238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3: PRODUCTIVE SECTORS: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3-1: Direct support to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237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o increase competitiveness of companies and the level of entrepreneurship, to balance equal opportunities in business; to increase the potential of scientific research in busin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new technologies &amp; innovation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environmental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ular Schemes for projects submi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ew products &amp; service development; new technologies &amp; innovations, modernization of production equipment; improvement of production &amp; service processes; R&amp;D for industry; integration of R&amp;D in business; quality management systems; implementation of standards &amp; certification systems; establishment of industry &amp; business collaboration clusters; implementation of cost reduction measures including EE measu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applic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projec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high VA products, increas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veness, internalization, impact on RD, co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47920" y="0"/>
            <a:ext cx="7696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4: RURAL &amp; AGRICULTURE: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4-5: Forest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4-3: Marketing of agriculture produ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28916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velop EES functions of forests, to improve the infrastructure and productivity of private forest holdings, increase the possibility for alternative activity and improve environ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ize processing and marketing of agricultural products, to improve their competitiveness and to increase the VA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the harvesting and logging of round wood as well as afforestation of non-agricultural land (use of biom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s into industries reprocessing agriculture products (raps conversion to biofuel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ular Schemes for projects submi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griculture activities for raps cultivation; diversification of agricultural activities including reprocessing of produced products and 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applic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armers, agriculture companie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ativ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66680" y="2286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1: INDUSTRY AND SERVICES: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S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1-1.3 Support of innovation and resear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1-1.4 Support of EE and use of 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654200"/>
            <a:ext cx="8915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crease of industry competitiveness through R&amp;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of EE and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new technologies &amp; innovations, environmental measures to reduce emiss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pproximation of industrial energy demands to the EU levels through EE and enhanced competitiveness of enterpri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 use of RES and local  fuels by promoting reg. busines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applic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ME;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pro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&amp;D in new EE technologies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o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ipation in EU innovation activities; R&amp;D in sectors wit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 innovative potential, entrepreneurs focussing 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novation of processes, products &amp;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66680" y="22860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Particular schemes for project submis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67652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of links of  R&amp;D &amp; busin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rtification equipment in the certification process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lting in documentation development for air quality management process, in implementing EMAS &amp; 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tion of prototypes and their testing on the market, designs of new produc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ication and elaboration of technical expertise to launch new technology and products  &amp; their independent, professional test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for the organisation of international seminars, conferenc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asibility studies in relevant ar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ment of the environment in terms of emissions, safety of WW and solid wastes and radiations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71600" y="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3: AGRICULTURE &amp; RURAL :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S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3-1 Investments in agricultural hold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3-2 Processing of agriculture produ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8915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efficiency of agricultural production and quality of life for the rural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ilities for the use of alternative energy sources for own consumption of energ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truction of technologies for environmental protection (W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chem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ojec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iss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ies for use of alternative energy for own needs,  reconstruction &amp; construction of WW treatment technologies, reconstruction of farm and forestry facilities to agro-tourism, housing equipments &amp; technologies,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applic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MEs, farmers, agriculture compan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projec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ies for use of alternative energy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 needs, modernization of housing equipment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eational activ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43000" y="22860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4: INFRASTRUCTURE: 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S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4-2.2 Air protection infrastru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4-3.1 Developing of civil infrastru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600200"/>
            <a:ext cx="8915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d regional develop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ing on fuels with low-emission and 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ation of technology to reduce air emissions &amp; monito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nstruction of buildings and facilities of educational, health, infrastructure (aimed at the insulation of buildings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chem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ojec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iss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ation of clean combustion technologies and 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ution abatement  installations, reconstruction and insulation of buildings of educational, health, social and cultural infrastructur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applic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MEs; Public Authorities, Municip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projec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emission energy combustion sources &amp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ES, pollution abatement technologies &amp; monito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ovation of buildings to increase E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00200" y="533520"/>
            <a:ext cx="72388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1: INDUSTRY &amp; ENTERPRISE: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C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1-7 Increase of EE &amp; use of RES</a:t>
            </a:r>
            <a:r>
              <a:rPr b="1" i="1" lang="en-US" sz="3200" spc="-1" strike="noStrike">
                <a:solidFill>
                  <a:srgbClr val="007eb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90512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ing energy consumption and higher use of 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technologies, energy savings in industry and industrial services (SMEs) to reach the EU levels and increase the competitive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ure economical use of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chem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ojec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savings program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applic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MEs in indust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projec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new, EE technologies &amp; ener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s; RES application in industry, CHP burning biomas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PPs, geothermal, waste incineration &amp; sludge from W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00200" y="0"/>
            <a:ext cx="7543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2: INFRASTRUCTURE: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C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2-7: Introduction of alternative fue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2-10: Water management impro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2-11: Air protection infrastru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89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roduction of alternative fuels in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management infrastructure improv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protection infrastructure improve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 number of motor vehicles using biofuels (esp. from ra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ment of the level of WW sludge manag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vironment-friendly combustion technologies and use of 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chem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ojec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the introduction of biofuel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on of facilities for energy use of sludge from W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of clean combus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ligible projects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&amp;D in alternative fuels, hydrogen,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s, WW treatment facilities, combus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pital Waste, use of 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47920" y="0"/>
            <a:ext cx="7696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4: RURAL &amp; AGRICULTURE: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C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4-1: Investments In agriculture holding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4-4: Development of rural are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60020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rther diversification of agricultural activit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velopment of rural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tion, processing and marketing of biomass made of one’s own agricultur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vestments in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alternative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urces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max. 5M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chem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ojec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 of biomass from own agriculture activit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of investments for using alternative  energy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applic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ME in agriculture, farm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projec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 of biomass from agriculture activities, use of biomass &amp; biogas as alternative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05120" y="380880"/>
            <a:ext cx="67816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1: ECONOMY: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P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1-2.4: Improvement of competitiveness of enterprise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057400"/>
            <a:ext cx="883908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port for investments aiming at the adjustment of companies to the environmental protection requirements state aid for pro-ecological investments in companies to increase competitiven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of emissions from large power supply pla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of energy from 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 environmental standards and the implementation of B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chem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ojec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ission: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28800" y="6858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7ebf"/>
                </a:solidFill>
                <a:latin typeface="Arial"/>
              </a:rPr>
              <a:t>Priorities of Structural Funds in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1828800"/>
            <a:ext cx="7238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 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ndustry and Servic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 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Human Resour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 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griculture and Rural Develop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 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Basic Infra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5280" y="304920"/>
            <a:ext cx="7848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D 6: INTEGRATED REGIONAL DEVELOPMENT :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P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6-1.2: Modernization of Infrastru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7ebf"/>
                </a:solidFill>
                <a:latin typeface="Arial"/>
              </a:rPr>
              <a:t>6-3.1: Local development</a:t>
            </a: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286000"/>
            <a:ext cx="85345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ade and modernise of infrastructure aiming at regions’ competitiveness strength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wage and water system manag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protection and waste manage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ficient use of energy (including RES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chem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ojec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ission: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05120" y="380880"/>
            <a:ext cx="6781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523880"/>
            <a:ext cx="883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, increase of EE for the stable growth of economy (L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d regional development an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rnisation  of infrastructure in regions to ensure competitiveness (SK, P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roduction of alternative fuels and decrease of ecological burden caused by  road traffic (C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 management &amp; air protection infrastructure improvement (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use of RES; EE in public sector (4 N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protection (4 N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 number of motor vehicles using biofuels (C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ment of WW &amp; sludge management (CZ, P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ligible applicants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MEs, PB, Municipalities, Stat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8088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INFRASTRUCTURE DEVELOPMENT i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4 N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05120" y="380880"/>
            <a:ext cx="6781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60020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crease competitiveness of companies and the level of entrepreneurship, to increase the potential of R&amp;D in business (4 N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of EE and RES to increase competitiveness (SK, CZ, P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investments into implementation of  environmental protection requirements to increase enterprise competitiveness (P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ies &amp; environmental measures (4 N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pproximation of industrial energy demands to the EU levels through EE (SK, CZ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 use of RES and local  fuels by promoting reg. business (SK, PL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ligible applicants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MEs, PB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nicip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30492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COMPETETIVENES OF PRODUCTIVE SECTORS in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4 N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05120" y="380880"/>
            <a:ext cx="6781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3716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ize processing and marketing of agricultural products, to improve their competitiveness (4 N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versification of agricultural activities &amp; development of rural areas (4 N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the productivity of private forest holdings (LT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the harvesting and logging of round wood &amp; biomass (L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s into raps conversion to biofuels (L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ng of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ilities for the use of alternative energy sources (biomass) for own consumption of energy (SK, CZ, P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vestments in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alternative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urces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x. 5M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gible applic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armers, agriculture companie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ativ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0"/>
            <a:ext cx="7391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REGIONAL &amp; AGRICULTURAL DEVELOPMENT in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4 N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05120" y="380880"/>
            <a:ext cx="6781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06668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ebf"/>
                </a:solidFill>
                <a:latin typeface="Times New Roman"/>
              </a:rPr>
              <a:t>Lithuania: Priority 1.2: Ensuring of energy supply stability, accessibility &amp; 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unds allocated for 2004-200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2.76 M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unds distributed for 3 projects (total 7 projects) aiming at EE in public build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1.24 MEU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ebf"/>
                </a:solidFill>
                <a:latin typeface="Times New Roman"/>
              </a:rPr>
              <a:t>Slovakia: Priority 1-1.4: Support of EE &amp; and use of 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unds allocated: 33.1 M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unds distributed for 2 projects:  (total 13 pro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ebf"/>
                </a:solidFill>
                <a:latin typeface="Times New Roman"/>
              </a:rPr>
              <a:t>Czech Republic: Priority 1-7: Reduction of energy consumption and use of 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unds allocated : 34.8 M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unds distributed 2 (total 7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5 thous. – 1 mil. EU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eb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7eb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7ebf"/>
                </a:solidFill>
                <a:latin typeface="Times New Roman"/>
              </a:rPr>
              <a:t>Poland: Priority 1-2.4: State aid  for ecological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7eb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7eb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7eb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7ebf"/>
                </a:solidFill>
                <a:latin typeface="Times New Roman"/>
              </a:rPr>
              <a:t>in companies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80880"/>
            <a:ext cx="7391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2860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USE of SDF for Sustainable energy projects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in 4N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527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92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304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EU SF administration in Lithuan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77724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05120" y="380880"/>
            <a:ext cx="6781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971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380880"/>
            <a:ext cx="739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Conclusions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8534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4 main Sectoral Operation programmes in 4 NM: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frastructure; Human resources; Productive Sector; Rural, agricultural development and fisher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y are very similar for Slovakia, Czech Republic and Lithuania, only for LT &amp; PL Technical assistance is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Poland the structure of priorities is quite different including separate SOP for maritime transport &amp; separate SOP for fisheries. Poland has also integrated regional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9292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Times New Roman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P which can be used for support of activities in the area of RES &amp; EE are similar in 4 NM: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frastructure, productive sectors, agricultural &amp; rural develop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ough structure of priorities quite similar the similar 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being finance from different SOP in 4 N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05120" y="380880"/>
            <a:ext cx="6781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2971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0"/>
            <a:ext cx="739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Conclusions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066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in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ctivities in the area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 &amp; EE in 4 NM are from SOP ID1 but these SOP have different titles and prior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K &amp; C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D1: Industry &amp; Service or Industry &amp; Enterpr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velopment of social &amp; economic infrastruc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crease of competitiveness of econom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similar structure of SOP and measures is in SK C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ds allocated for priority 1.2: Ensuring of energy supply stability, accessibility &amp; EE in Lithuania  2004-2006 : 82.76 MEUR; the funds distributed for 3 projects 1.24 MEU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ds allocated for priority Slovakia for priority 1-1.4: Support of EE &amp; and use of RES is  33.1 MEUR. The funds distributed for 2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ds allocated in CZ for priority 1-7: Reductio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consumption and use of RES: 34.8 MEUR. The funds for 2 projects distributed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 thous. – 1 mil. EU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05120" y="380880"/>
            <a:ext cx="6781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2971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0"/>
            <a:ext cx="739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Conclusions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990720"/>
            <a:ext cx="8991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Infra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use of RES; EE in public sector (4 NM)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protection (4 NM); increase number of motor vehicles using biofuels (CZ); improvement of WW &amp; sludge management (CZ, P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Productive sector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ies &amp; environmental measures (4 N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pproximation of industrial energy demands to the EU levels through EE (SK, CZ); increase use of RES and local  fuels by promoting reg. business (SK, PL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articular Subgoals relating to EE or 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Agriculture &amp; Regiona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the harvesting and logging of round wood &amp; biomass (LT); investments into raps conversion to biofuels (LT); financing of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ilities for the use of alternative energy sources    (biomass) for own consumption of energy (SK, CZ, PL);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alternative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urces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x. 5M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05120" y="380880"/>
            <a:ext cx="6781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971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447920"/>
            <a:ext cx="85345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ontact: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uanian energy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lia Streimik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-Mai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lia@mail.lei.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3880" y="6858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7ebf"/>
                </a:solidFill>
                <a:latin typeface="Arial"/>
              </a:rPr>
              <a:t>Priorities of Structural Funds in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209680"/>
            <a:ext cx="7848720" cy="28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: Industry and Enterpris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 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nfrastructure;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 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Rural Development and Multi-Functional Agricultur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 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Human Resources Development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8800" y="304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7ebf"/>
                </a:solidFill>
                <a:latin typeface="Arial"/>
              </a:rPr>
              <a:t>Priorities of Structural Funds</a:t>
            </a:r>
            <a:r>
              <a:rPr b="1" i="1" lang="en-US" sz="3200" spc="-1" strike="noStrike">
                <a:solidFill>
                  <a:srgbClr val="007ebf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990720"/>
            <a:ext cx="78487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 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ment of competitiveness of the econom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 2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uman resources develop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 3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ructuring and modernisation of the food sector and rural develop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 4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heries and fish process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 5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port-Maritime Econom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 6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grated Regional Operational Program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D 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00200" y="533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7ebf"/>
                </a:solidFill>
                <a:latin typeface="Arial"/>
              </a:rPr>
              <a:t>Priorities of Structural Funds</a:t>
            </a:r>
            <a:r>
              <a:rPr b="1" i="1" lang="en-US" sz="3200" spc="-1" strike="noStrike">
                <a:solidFill>
                  <a:srgbClr val="007ebf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4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600200"/>
            <a:ext cx="8915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frastructure (LT, CZ, SK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resources (4 N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ductive Sector (4 NM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ral, regional, agricultural development and fisheries (4 N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port-Maritime Economy (PL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chnical assistance (LT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, P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2480" y="380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ebf"/>
                </a:solidFill>
                <a:latin typeface="Arial"/>
              </a:rPr>
              <a:t>SF and Sustainable Energy in 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LT</a:t>
            </a:r>
            <a:r>
              <a:rPr b="1" i="1" lang="sk-SK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ID 1: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1-2.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novation of boile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mass or natural gas conversion</a:t>
            </a:r>
            <a:r>
              <a:rPr b="0" lang="en-GB" sz="2400" spc="-1" strike="noStrike">
                <a:solidFill>
                  <a:srgbClr val="29292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1-2.3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cal and Renewable Energy Sour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1-2.4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rease of Energy Efficiency in Public S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D 3: Productive s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3-1.1: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ation of new technolog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iority ID 3-1.12: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ation of environmental measu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ID 4: Rur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ority ID 4-5.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estments  to improve and rationalise the harvesting and logging of round wood and afforest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ority ID 4-3.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estments into industries reprocessing agriculture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457200" y="-34308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0"/>
            <a:ext cx="7391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Areas of sustainable energy support in OP and responsible institutions in </a:t>
            </a:r>
            <a:r>
              <a:rPr b="1" i="1" lang="en-US" sz="3000" spc="-1" strike="noStrike">
                <a:solidFill>
                  <a:srgbClr val="ccccff"/>
                </a:solidFill>
                <a:latin typeface="Arial"/>
              </a:rPr>
              <a:t>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66680" y="1295280"/>
          <a:ext cx="8077320" cy="1752840"/>
        </p:xfrm>
        <a:graphic>
          <a:graphicData uri="http://schemas.openxmlformats.org/drawingml/2006/table">
            <a:tbl>
              <a:tblPr/>
              <a:tblGrid>
                <a:gridCol w="2590920"/>
                <a:gridCol w="5486400"/>
              </a:tblGrid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1 Development of Social and Economic Infrastructure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nistry of Economy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1-2  Ensuring of Energy supply Stability, accessibility and increased efficiency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ithuanian Business Support Agency of the Ministry of Economy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ks: application screening, preparation of calls, implementation of project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066680" y="3048120"/>
          <a:ext cx="8077320" cy="1463400"/>
        </p:xfrm>
        <a:graphic>
          <a:graphicData uri="http://schemas.openxmlformats.org/drawingml/2006/table">
            <a:tbl>
              <a:tblPr/>
              <a:tblGrid>
                <a:gridCol w="2590920"/>
                <a:gridCol w="54864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3:  </a:t>
                      </a:r>
                      <a:r>
                        <a:rPr b="1" i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 of productive sector &amp;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nistry of Economy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3-1  </a:t>
                      </a:r>
                      <a:r>
                        <a:rPr b="1" i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 Support to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ithuanian Business Support Agency of the Ministry of Econom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ks: application screening, preparation of calls, implementation of project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066680" y="4419720"/>
          <a:ext cx="8077320" cy="2133360"/>
        </p:xfrm>
        <a:graphic>
          <a:graphicData uri="http://schemas.openxmlformats.org/drawingml/2006/table">
            <a:tbl>
              <a:tblPr/>
              <a:tblGrid>
                <a:gridCol w="2590920"/>
                <a:gridCol w="548640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4:  </a:t>
                      </a:r>
                      <a:r>
                        <a:rPr b="1" i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Development and Fishe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nistry of Agri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4-5.3: Investments  to improve and rationalise the harvesting and logging of round wo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4-3.3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stments into industries reprocessing agriculture produc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ational paying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ks: application screening, preparation of calls, implementation of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ebf"/>
                </a:solidFill>
                <a:latin typeface="Arial"/>
              </a:rPr>
              <a:t>Project cycle in Lithuan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772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8:50:24Z</dcterms:created>
  <dc:creator>POUR DEMO</dc:creator>
  <dc:description/>
  <dc:language>en-US</dc:language>
  <cp:lastModifiedBy> </cp:lastModifiedBy>
  <dcterms:modified xsi:type="dcterms:W3CDTF">2004-12-08T09:51:24Z</dcterms:modified>
  <cp:revision>86</cp:revision>
  <dc:subject/>
  <dc:title>Aucun titre de diapositive</dc:title>
</cp:coreProperties>
</file>